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9792-ACD6-4800-B862-377C4EDCAA1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BCA4-96D5-493A-B7CE-2C7665463E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BE1E-4900-475B-B6D6-D953972B40E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A5C6-6FFA-4A2C-94B2-08F322F38E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8768-76B4-4CFC-9C0F-3C35AA3BF9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B56D-00E3-4295-B487-D9C61B5C16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DBD4-13B4-44E5-8E50-1B0AB91E9E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B513-5730-486E-8717-8295D3BA96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D1A4-8E2F-42F7-9B07-36955365D7C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321C-2D1C-4615-A239-9143ABFEF4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AFAA-5984-4ECB-A3F1-05989BB77E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9BA4-3ADD-4D20-8F9B-65B7FA659EF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F6FE-A3C6-476A-9B2B-A3EDCC91E64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3614-2E31-4817-9650-ACACAD90FC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A9B0-3305-4109-B57A-2680ED7157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7E4A-3B09-47C1-82C5-D14BA644DE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8733-AF8D-4EEF-8F07-78EAA626A5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6C57-E480-4CE4-98B5-3B34879B1E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9FA3-2468-445E-A01D-F6662AB025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F983-5B8E-4C40-BBF9-E0397B2F93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CB33-8BE5-4F67-8DCA-D5195F21DF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2722-6C50-46CB-95AA-036054B57C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FD59-036F-444E-ADB2-04042859292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7FDF-310A-45CF-80BD-7F590E6BB2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E1DB-6066-4ACD-B02D-E85433A2164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8591-73A9-4136-9637-EEB6FC12E7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DE4-AB6A-4212-B23B-9C4941CB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5932-A279-444C-A838-C4D80129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FB1-30BC-4A3E-9D35-020249E9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33E-DDD4-4799-9AEC-9F989455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65D-7327-4A5D-8CA1-DF6BCE4F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3CA-84CA-4240-90B5-0D8A051A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1C5-8400-449E-9249-A73DDF18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E3B5-5317-4A68-BE06-8C64FBE1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8DD4-AEA4-4850-9BF6-7B482864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E65-EFCD-468A-B592-BF26B8C8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8A9D-F5F8-4787-ACBB-167E8622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B1B1-4F91-40BD-BA16-16E88F77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B1A9-5F4C-4BA2-8F62-EDCFFA2729A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77 a 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11. 12. 2012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6.   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projektu podle bodu 15 části II Rozhodnutí o poskytnut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Změny ve způsobu provádění klíčových aktivit a klíčových pozic realizačního týmu – v případě, že bod 15 části II Rozhodnutí se odkazuje na klíčové aktivity a realizační tý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197000"/>
          <a:ext cx="8207280" cy="507528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uditorská zpráva </a:t>
                      </a:r>
                      <a:r>
                        <a:rPr b="1" lang="cs-CZ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pouze pokud je povinnost provést audit stanovená v Rozhodnutí o poskytnutí dota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datem podpisu oprávněné osoby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auditora (v případě povinnosti provést aud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, čase a odvětví obvyklých (dostupné na www.esfcr.cz, součástí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12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1:  (9:05 – 10:00 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(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10 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2: (cca 10:10 – 12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 náklady, partnerst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ovací indiká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 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2:0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3:  ( cca 12:30 – 13:40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+ 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( 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3:4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4: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(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cca od 13: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řejná podpora - de minim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 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907920"/>
            <a:ext cx="82296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Dva typy partnerstv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artner s finančním příspěvkem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– tento typ partnera přijímá prostřednictvím příjemce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část finanční podpory na realizaci věcných projektových aktiv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artner bez finančního příspěvku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– tento typ partnera se podílí na realizaci věcných aktivit projektu, např. formou konzultací, odborné garance apod., ale není mu poskytován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žádný finanční příspěvek za účast na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 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765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s českými partne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i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zahraničních partn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Arial"/>
              </a:rPr>
              <a:t>Zahraniční partner je vždy partnerem bez finančního příspěv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Arial"/>
              </a:rPr>
              <a:t>Zahraniční partneři si musí sami zajistit financování aktivit, k jejichž zajištění se zavazují v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ě o mezinárodní spoluprá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(kromě zdrojů z ESF i jiné zdroje financování, např. vlastní zdroje, národní financování nebo jiný druh financování z rozpočtu EU)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droje financování zahraniční partner už dále nedoklád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jimka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– způsobilými výdaji mohou být výdaje na cestovné, ubytování a stravu (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Per-diems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) v případě, že zahraniční partner např. prezentuje na mezinárodní konferenci v ČR nebo jiným způsobem předává zkušenosti partnerům v ČR, podrobněji viz Metodika způsobilých výdajů OP LZZ (D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Neplnění závazků /odstoupení zahraničního partnera u projektů v 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blasti podpory 5.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statná změna projektu, musí být schvá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souzení další smysluplnosti a realizovatelnosti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stoupení zahraničního partnera = ukončen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smí být zaúčtovány společně s přímými nákl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6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 – D2 (kapitola 14.) a D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5.3 části II Rozhodnutí o poskytnutí dotace a Příručkou pro příjemce (D2) a Pokyny pro vyplnění MZ (D1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77 (3.kolo)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4 měsíců realizace projektu (1. – 4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88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3 měsíců realizace projektu (1. – 3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2. Průběžná monitorovací zpráv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 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77 (3.kolo)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dalších 3 měsíců realizace projektu (5. - 7. měsíc), předkládá se do 15-ti kalendářních dnů od ukončeného monitorovacího obdob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 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88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3 měsíců realizace projektu (4. – 6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. měsíců realizace projektu, předkládá se do 30-ti kalendářních dnů od ukončeného monitorovacího období. V případě domluvy s kontaktní osobou je možné předložit </a:t>
            </a: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kratší sledované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y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onitorovací zprávy (průběžné, mimořádné závěrečná)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růběžná MZ, Mimořádná MZ a ZM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 el. Podobě v Benefit 7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řílohy nutné nahrát do Benefit 7+ k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zprávy poskytovateli podpory nikoliv datum odeslání zásil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růběžná MZ, Mimořádná MZ a Z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1. a 2. část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Předchoz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eliska.dobra</cp:lastModifiedBy>
  <dcterms:modified xsi:type="dcterms:W3CDTF">2012-12-19T09:13:43Z</dcterms:modified>
  <cp:revision>410</cp:revision>
  <dc:subject/>
  <dc:title>Snímek 1</dc:title>
</cp:coreProperties>
</file>